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EAD-B576-4A7C-B592-64920FD3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4A6-2C06-476C-8168-D24B5F9A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424-80AF-442E-89AE-F1F0BA05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E3E-58DF-4AD7-802C-7A7A30B4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602-3C2E-43CA-A604-40E6FC8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CF4-C3C8-4B72-85CC-50380306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C97-24D7-4129-BFD5-58E2F6F4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675-B6F9-4369-8407-2B6E592B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39D-4483-4CF2-BF3A-7D4F774F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57C-F519-4482-AC65-32F23090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994-3825-4FEF-BB37-5E51CAAA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814-E331-440F-B973-6024532F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15CE-0FEE-48C7-8ABB-DA9762BCE9F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иверзит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гујевцу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култ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ука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грис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адем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уд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а медицина и рехабили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610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ви моду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реће преда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ЕЛЕКТРОТЕРАПИЈА</a:t>
            </a:r>
            <a:br>
              <a:rPr sz="3600"/>
            </a:b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Једносмерне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 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струје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303120"/>
            <a:ext cx="14414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1371600" y="2971800"/>
            <a:ext cx="152280" cy="228600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јонско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д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898560" y="31240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Oval 17"/>
          <p:cNvSpPr/>
          <p:nvPr/>
        </p:nvSpPr>
        <p:spPr>
          <a:xfrm>
            <a:off x="5486400" y="3200400"/>
            <a:ext cx="380880" cy="30492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Oval 20"/>
          <p:cNvSpPr/>
          <p:nvPr/>
        </p:nvSpPr>
        <p:spPr>
          <a:xfrm>
            <a:off x="4724280" y="4724280"/>
            <a:ext cx="228600" cy="22860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52880" y="46483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5638680" y="312408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Line 33"/>
          <p:cNvSpPr/>
          <p:nvPr/>
        </p:nvSpPr>
        <p:spPr>
          <a:xfrm>
            <a:off x="1143000" y="3200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Line 34"/>
          <p:cNvSpPr/>
          <p:nvPr/>
        </p:nvSpPr>
        <p:spPr>
          <a:xfrm>
            <a:off x="1143000" y="35053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36"/>
          <p:cNvSpPr/>
          <p:nvPr/>
        </p:nvSpPr>
        <p:spPr>
          <a:xfrm>
            <a:off x="1143000" y="380988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Line 37"/>
          <p:cNvSpPr/>
          <p:nvPr/>
        </p:nvSpPr>
        <p:spPr>
          <a:xfrm>
            <a:off x="1143000" y="41148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Line 38"/>
          <p:cNvSpPr/>
          <p:nvPr/>
        </p:nvSpPr>
        <p:spPr>
          <a:xfrm>
            <a:off x="1143000" y="44197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39"/>
          <p:cNvSpPr/>
          <p:nvPr/>
        </p:nvSpPr>
        <p:spPr>
          <a:xfrm>
            <a:off x="1143000" y="48006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1523880" y="4952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Garamond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45"/>
          <p:cNvSpPr/>
          <p:nvPr/>
        </p:nvSpPr>
        <p:spPr>
          <a:xfrm>
            <a:off x="1447200" y="2948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Garamond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7467480" y="48769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HC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47"/>
          <p:cNvSpPr/>
          <p:nvPr/>
        </p:nvSpPr>
        <p:spPr>
          <a:xfrm>
            <a:off x="7474680" y="2771640"/>
            <a:ext cx="77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HC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8153280" y="2895480"/>
            <a:ext cx="627480" cy="2133720"/>
            <a:chOff x="8153280" y="2895480"/>
            <a:chExt cx="627480" cy="2133720"/>
          </a:xfrm>
        </p:grpSpPr>
        <p:sp>
          <p:nvSpPr>
            <p:cNvPr id="85" name="Rectangle 9"/>
            <p:cNvSpPr/>
            <p:nvPr/>
          </p:nvSpPr>
          <p:spPr>
            <a:xfrm>
              <a:off x="8153280" y="2971800"/>
              <a:ext cx="152280" cy="20574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Text Box 49"/>
            <p:cNvSpPr/>
            <p:nvPr/>
          </p:nvSpPr>
          <p:spPr>
            <a:xfrm>
              <a:off x="8381880" y="3200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Rectangle 51"/>
            <p:cNvSpPr/>
            <p:nvPr/>
          </p:nvSpPr>
          <p:spPr>
            <a:xfrm>
              <a:off x="8471880" y="35053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8471880" y="38098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53"/>
            <p:cNvSpPr/>
            <p:nvPr/>
          </p:nvSpPr>
          <p:spPr>
            <a:xfrm>
              <a:off x="8471880" y="41911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ectangle 54"/>
            <p:cNvSpPr/>
            <p:nvPr/>
          </p:nvSpPr>
          <p:spPr>
            <a:xfrm>
              <a:off x="8471880" y="4572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55"/>
            <p:cNvSpPr/>
            <p:nvPr/>
          </p:nvSpPr>
          <p:spPr>
            <a:xfrm>
              <a:off x="8395560" y="289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" name="Text Box 56"/>
          <p:cNvSpPr/>
          <p:nvPr/>
        </p:nvSpPr>
        <p:spPr>
          <a:xfrm>
            <a:off x="53341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Group 59"/>
          <p:cNvGrpSpPr/>
          <p:nvPr/>
        </p:nvGrpSpPr>
        <p:grpSpPr>
          <a:xfrm>
            <a:off x="6629400" y="2971800"/>
            <a:ext cx="380880" cy="749160"/>
            <a:chOff x="6629400" y="2971800"/>
            <a:chExt cx="380880" cy="749160"/>
          </a:xfrm>
        </p:grpSpPr>
        <p:sp>
          <p:nvSpPr>
            <p:cNvPr id="94" name="Oval 60"/>
            <p:cNvSpPr/>
            <p:nvPr/>
          </p:nvSpPr>
          <p:spPr>
            <a:xfrm>
              <a:off x="6629400" y="3200400"/>
              <a:ext cx="304560" cy="15228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Line 61"/>
            <p:cNvSpPr/>
            <p:nvPr/>
          </p:nvSpPr>
          <p:spPr>
            <a:xfrm>
              <a:off x="6781680" y="29718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62"/>
            <p:cNvSpPr/>
            <p:nvPr/>
          </p:nvSpPr>
          <p:spPr>
            <a:xfrm>
              <a:off x="6705360" y="3048120"/>
              <a:ext cx="151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Text Box 63"/>
            <p:cNvSpPr/>
            <p:nvPr/>
          </p:nvSpPr>
          <p:spPr>
            <a:xfrm>
              <a:off x="6629400" y="33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" name="Group 65"/>
          <p:cNvGrpSpPr/>
          <p:nvPr/>
        </p:nvGrpSpPr>
        <p:grpSpPr>
          <a:xfrm>
            <a:off x="6629400" y="3886200"/>
            <a:ext cx="304920" cy="380880"/>
            <a:chOff x="6629400" y="3886200"/>
            <a:chExt cx="304920" cy="380880"/>
          </a:xfrm>
        </p:grpSpPr>
        <p:sp>
          <p:nvSpPr>
            <p:cNvPr id="99" name="Oval 66"/>
            <p:cNvSpPr/>
            <p:nvPr/>
          </p:nvSpPr>
          <p:spPr>
            <a:xfrm>
              <a:off x="6629400" y="396216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67"/>
            <p:cNvSpPr/>
            <p:nvPr/>
          </p:nvSpPr>
          <p:spPr>
            <a:xfrm>
              <a:off x="6782040" y="388620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" name="Rectangle 68"/>
          <p:cNvSpPr/>
          <p:nvPr/>
        </p:nvSpPr>
        <p:spPr>
          <a:xfrm>
            <a:off x="6479640" y="42670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Oval 69"/>
          <p:cNvSpPr/>
          <p:nvPr/>
        </p:nvSpPr>
        <p:spPr>
          <a:xfrm>
            <a:off x="4800600" y="320040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0"/>
          <p:cNvSpPr/>
          <p:nvPr/>
        </p:nvSpPr>
        <p:spPr>
          <a:xfrm>
            <a:off x="4710240" y="34290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1"/>
          <p:cNvSpPr/>
          <p:nvPr/>
        </p:nvSpPr>
        <p:spPr>
          <a:xfrm>
            <a:off x="472428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72"/>
          <p:cNvSpPr/>
          <p:nvPr/>
        </p:nvSpPr>
        <p:spPr>
          <a:xfrm flipH="1">
            <a:off x="4190760" y="327672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73"/>
          <p:cNvSpPr/>
          <p:nvPr/>
        </p:nvSpPr>
        <p:spPr>
          <a:xfrm>
            <a:off x="5867280" y="335268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Oval 75"/>
          <p:cNvSpPr/>
          <p:nvPr/>
        </p:nvSpPr>
        <p:spPr>
          <a:xfrm>
            <a:off x="7772400" y="3429000"/>
            <a:ext cx="380880" cy="30492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Oval 76"/>
          <p:cNvSpPr/>
          <p:nvPr/>
        </p:nvSpPr>
        <p:spPr>
          <a:xfrm>
            <a:off x="7848720" y="327672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95"/>
          <p:cNvGrpSpPr/>
          <p:nvPr/>
        </p:nvGrpSpPr>
        <p:grpSpPr>
          <a:xfrm>
            <a:off x="2745720" y="2895480"/>
            <a:ext cx="1075320" cy="1815840"/>
            <a:chOff x="2745720" y="2895480"/>
            <a:chExt cx="1075320" cy="1815840"/>
          </a:xfrm>
        </p:grpSpPr>
        <p:sp>
          <p:nvSpPr>
            <p:cNvPr id="110" name="Oval 6"/>
            <p:cNvSpPr/>
            <p:nvPr/>
          </p:nvSpPr>
          <p:spPr>
            <a:xfrm>
              <a:off x="3429000" y="3200400"/>
              <a:ext cx="228600" cy="15228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1" name="Group 58"/>
            <p:cNvGrpSpPr/>
            <p:nvPr/>
          </p:nvGrpSpPr>
          <p:grpSpPr>
            <a:xfrm>
              <a:off x="2819520" y="3962160"/>
              <a:ext cx="380880" cy="749160"/>
              <a:chOff x="2819520" y="3962160"/>
              <a:chExt cx="380880" cy="749160"/>
            </a:xfrm>
          </p:grpSpPr>
          <p:sp>
            <p:nvSpPr>
              <p:cNvPr id="112" name="Oval 7"/>
              <p:cNvSpPr/>
              <p:nvPr/>
            </p:nvSpPr>
            <p:spPr>
              <a:xfrm>
                <a:off x="2819520" y="4190760"/>
                <a:ext cx="304560" cy="152280"/>
              </a:xfrm>
              <a:prstGeom prst="ellipse">
                <a:avLst/>
              </a:prstGeom>
              <a:solidFill>
                <a:srgbClr val="4f81bd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>
                <a:off x="2971800" y="3962160"/>
                <a:ext cx="0" cy="152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>
                <a:off x="2895480" y="4038480"/>
                <a:ext cx="151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Text Box 43"/>
              <p:cNvSpPr/>
              <p:nvPr/>
            </p:nvSpPr>
            <p:spPr>
              <a:xfrm>
                <a:off x="2819520" y="4343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aramond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6" name="Rectangle 77"/>
            <p:cNvSpPr/>
            <p:nvPr/>
          </p:nvSpPr>
          <p:spPr>
            <a:xfrm>
              <a:off x="3338640" y="327636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78"/>
            <p:cNvSpPr/>
            <p:nvPr/>
          </p:nvSpPr>
          <p:spPr>
            <a:xfrm>
              <a:off x="3366360" y="289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Group 79"/>
            <p:cNvGrpSpPr/>
            <p:nvPr/>
          </p:nvGrpSpPr>
          <p:grpSpPr>
            <a:xfrm>
              <a:off x="2819520" y="3124080"/>
              <a:ext cx="304200" cy="380880"/>
              <a:chOff x="2819520" y="3124080"/>
              <a:chExt cx="304200" cy="380880"/>
            </a:xfrm>
          </p:grpSpPr>
          <p:sp>
            <p:nvSpPr>
              <p:cNvPr id="119" name="Oval 80"/>
              <p:cNvSpPr/>
              <p:nvPr/>
            </p:nvSpPr>
            <p:spPr>
              <a:xfrm>
                <a:off x="2819520" y="3200040"/>
                <a:ext cx="228240" cy="304920"/>
              </a:xfrm>
              <a:prstGeom prst="ellipse">
                <a:avLst/>
              </a:prstGeom>
              <a:solidFill>
                <a:srgbClr val="4f81bd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Line 81"/>
              <p:cNvSpPr/>
              <p:nvPr/>
            </p:nvSpPr>
            <p:spPr>
              <a:xfrm>
                <a:off x="2971800" y="3124080"/>
                <a:ext cx="151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" name="Rectangle 82"/>
            <p:cNvSpPr/>
            <p:nvPr/>
          </p:nvSpPr>
          <p:spPr>
            <a:xfrm>
              <a:off x="2745720" y="342900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Group 83"/>
          <p:cNvGrpSpPr/>
          <p:nvPr/>
        </p:nvGrpSpPr>
        <p:grpSpPr>
          <a:xfrm>
            <a:off x="1523880" y="3352680"/>
            <a:ext cx="304920" cy="380880"/>
            <a:chOff x="1523880" y="3352680"/>
            <a:chExt cx="304920" cy="380880"/>
          </a:xfrm>
        </p:grpSpPr>
        <p:sp>
          <p:nvSpPr>
            <p:cNvPr id="123" name="Oval 84"/>
            <p:cNvSpPr/>
            <p:nvPr/>
          </p:nvSpPr>
          <p:spPr>
            <a:xfrm>
              <a:off x="1523880" y="342864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Line 85"/>
            <p:cNvSpPr/>
            <p:nvPr/>
          </p:nvSpPr>
          <p:spPr>
            <a:xfrm>
              <a:off x="1676520" y="33526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5" name="Oval 86"/>
          <p:cNvSpPr/>
          <p:nvPr/>
        </p:nvSpPr>
        <p:spPr>
          <a:xfrm>
            <a:off x="1676520" y="3352680"/>
            <a:ext cx="228600" cy="15264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7"/>
          <p:cNvSpPr/>
          <p:nvPr/>
        </p:nvSpPr>
        <p:spPr>
          <a:xfrm>
            <a:off x="480060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8"/>
          <p:cNvSpPr/>
          <p:nvPr/>
        </p:nvSpPr>
        <p:spPr>
          <a:xfrm>
            <a:off x="259092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2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Oval 89"/>
          <p:cNvSpPr/>
          <p:nvPr/>
        </p:nvSpPr>
        <p:spPr>
          <a:xfrm>
            <a:off x="7772400" y="4419720"/>
            <a:ext cx="380880" cy="3045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90"/>
          <p:cNvSpPr/>
          <p:nvPr/>
        </p:nvSpPr>
        <p:spPr>
          <a:xfrm>
            <a:off x="7848720" y="4267080"/>
            <a:ext cx="228600" cy="15264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91"/>
          <p:cNvGrpSpPr/>
          <p:nvPr/>
        </p:nvGrpSpPr>
        <p:grpSpPr>
          <a:xfrm>
            <a:off x="1523880" y="4495680"/>
            <a:ext cx="304920" cy="380880"/>
            <a:chOff x="1523880" y="4495680"/>
            <a:chExt cx="304920" cy="380880"/>
          </a:xfrm>
        </p:grpSpPr>
        <p:sp>
          <p:nvSpPr>
            <p:cNvPr id="131" name="Oval 92"/>
            <p:cNvSpPr/>
            <p:nvPr/>
          </p:nvSpPr>
          <p:spPr>
            <a:xfrm>
              <a:off x="1523880" y="457164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93"/>
            <p:cNvSpPr/>
            <p:nvPr/>
          </p:nvSpPr>
          <p:spPr>
            <a:xfrm>
              <a:off x="1676520" y="44956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3" name="Oval 94"/>
          <p:cNvSpPr/>
          <p:nvPr/>
        </p:nvSpPr>
        <p:spPr>
          <a:xfrm>
            <a:off x="1600200" y="441972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96"/>
          <p:cNvSpPr/>
          <p:nvPr/>
        </p:nvSpPr>
        <p:spPr>
          <a:xfrm>
            <a:off x="62485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2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97"/>
          <p:cNvSpPr/>
          <p:nvPr/>
        </p:nvSpPr>
        <p:spPr>
          <a:xfrm>
            <a:off x="7696080" y="2133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O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98"/>
          <p:cNvSpPr/>
          <p:nvPr/>
        </p:nvSpPr>
        <p:spPr>
          <a:xfrm>
            <a:off x="914400" y="2133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ATO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99"/>
          <p:cNvSpPr/>
          <p:nvPr/>
        </p:nvSpPr>
        <p:spPr>
          <a:xfrm flipH="1">
            <a:off x="609120" y="39625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00"/>
          <p:cNvSpPr/>
          <p:nvPr/>
        </p:nvSpPr>
        <p:spPr>
          <a:xfrm>
            <a:off x="609480" y="39625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101"/>
          <p:cNvSpPr/>
          <p:nvPr/>
        </p:nvSpPr>
        <p:spPr>
          <a:xfrm>
            <a:off x="609480" y="61722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102"/>
          <p:cNvSpPr/>
          <p:nvPr/>
        </p:nvSpPr>
        <p:spPr>
          <a:xfrm>
            <a:off x="4724280" y="6172200"/>
            <a:ext cx="4114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103"/>
          <p:cNvSpPr/>
          <p:nvPr/>
        </p:nvSpPr>
        <p:spPr>
          <a:xfrm flipV="1">
            <a:off x="8839080" y="3886200"/>
            <a:ext cx="0" cy="228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04"/>
          <p:cNvSpPr/>
          <p:nvPr/>
        </p:nvSpPr>
        <p:spPr>
          <a:xfrm flipH="1">
            <a:off x="8305560" y="388620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105"/>
          <p:cNvSpPr/>
          <p:nvPr/>
        </p:nvSpPr>
        <p:spPr>
          <a:xfrm>
            <a:off x="4038480" y="5867280"/>
            <a:ext cx="0" cy="6098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106"/>
          <p:cNvSpPr/>
          <p:nvPr/>
        </p:nvSpPr>
        <p:spPr>
          <a:xfrm>
            <a:off x="4724280" y="6019920"/>
            <a:ext cx="0" cy="30456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07"/>
          <p:cNvSpPr/>
          <p:nvPr/>
        </p:nvSpPr>
        <p:spPr>
          <a:xfrm>
            <a:off x="527400" y="546264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kolikvacione nekro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08"/>
          <p:cNvSpPr/>
          <p:nvPr/>
        </p:nvSpPr>
        <p:spPr>
          <a:xfrm>
            <a:off x="6477120" y="5562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koagulaciona nekro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09"/>
          <p:cNvSpPr/>
          <p:nvPr/>
        </p:nvSpPr>
        <p:spPr>
          <a:xfrm>
            <a:off x="334080" y="6324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aramond"/>
              </a:rPr>
              <a:t>2Na + 2HOH = 2NaOH + H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10"/>
          <p:cNvSpPr/>
          <p:nvPr/>
        </p:nvSpPr>
        <p:spPr>
          <a:xfrm>
            <a:off x="4648320" y="6324480"/>
            <a:ext cx="4495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aramond"/>
              </a:rPr>
              <a:t>4Cl + 2HOH = 4HCl + 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80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Примарно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по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1599840"/>
            <a:ext cx="3962160" cy="525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Verdana"/>
              </a:rPr>
              <a:t>Ан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исел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налге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нтиедематозно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мирујућ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00ff"/>
                </a:solidFill>
                <a:latin typeface="Verdana"/>
              </a:rPr>
              <a:t>Кат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базн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осетљивости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б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купљањ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дражајно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ЕКУНДАРНО</a:t>
            </a:r>
            <a:r>
              <a:rPr b="0" lang="en-AU" sz="4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ФИЗИОЛОШКО</a:t>
            </a:r>
            <a:r>
              <a:rPr b="0" lang="en-AU" sz="4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словље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еловање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нервн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завршетк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и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рецепт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вазомотор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вазодилатац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ож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ишићим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отор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рв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ону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ишић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нелектротону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ателектротону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нзитив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рв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бољша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ферентациј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кстер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оприцеп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нзибилит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ецептор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о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одулац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ол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налгез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испод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анод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на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ћелиј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и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тк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већа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опустљивос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е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емб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тивнос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е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нз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етаболиз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зитивн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РОФИЧК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елуј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ОЦЕ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ЕГЕНЕР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ТЕРАПИЈСКА</a:t>
            </a: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РИМ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већ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ртеријс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нс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циркул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м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крвљен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ж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ишић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руг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роз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тич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с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сорпц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кстравазат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лиминациц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таболит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неј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ол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дражљив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нзитивн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ра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већ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дражљив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оторн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ра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јач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ш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ктивн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ћел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рофи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с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пар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генер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9464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римена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лонгитудиналн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галванизациј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д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ставље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ајеви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етирано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однос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уж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HPIM0226"/>
          <p:cNvPicPr/>
          <p:nvPr/>
        </p:nvPicPr>
        <p:blipFill>
          <a:blip r:embed="rId1"/>
          <a:stretch/>
        </p:blipFill>
        <p:spPr>
          <a:xfrm>
            <a:off x="4267080" y="2286000"/>
            <a:ext cx="46958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Апликација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трансверзалн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галванизациј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етиран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з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Дозирањ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ачин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вршин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д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цм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устин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цм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ајањ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1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2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ин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Број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ј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р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р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= 10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000" y="274680"/>
            <a:ext cx="8632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Индикације за примену 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У неурологиј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-обољењ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овреде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ериферних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ерава,неуралгије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неуропатије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радикулопат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-мијалгије, атрофије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арализе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мишић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У ортопедиј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-посттрауматск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стањ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где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кож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интакт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Реуматск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бољењ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у хроничној фа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Васкуларн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бољењ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фазам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I-II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о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Фонтенеу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Ендартетитис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облитеранс,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атеросклероз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дијабетичне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васкулопатије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Рејнове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болести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ромрзл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трофичких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промена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еде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електродијагности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Контраиндикације за примену СГ</a:t>
            </a: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рваре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клоност ка крварењ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фебрилн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та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нфективна обоњ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ахексиј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дручј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локалн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утн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пал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зглобо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лућ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екомпазациј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рца и виталних орган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Б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алигних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умор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ромбофлебити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присусутв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метал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ест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плик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оштећењ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кож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ест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гд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реб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пликуј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лектр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Специјални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облици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ри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269360" indent="-37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егативн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лиза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3200" spc="-1" strike="noStrike">
                <a:solidFill>
                  <a:srgbClr val="00b0f0"/>
                </a:solidFill>
                <a:latin typeface="Verdana"/>
              </a:rPr>
              <a:t>дерматологија</a:t>
            </a:r>
            <a:r>
              <a:rPr b="0" lang="sr-Latn-CS" sz="3200" spc="-1" strike="noStrike">
                <a:solidFill>
                  <a:srgbClr val="00b0f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69360" indent="-37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69360" indent="-37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Јонофорез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3200" spc="-1" strike="noStrike">
                <a:solidFill>
                  <a:srgbClr val="00b0f0"/>
                </a:solidFill>
                <a:latin typeface="Verdana"/>
              </a:rPr>
              <a:t>стоматологија</a:t>
            </a:r>
            <a:r>
              <a:rPr b="0" lang="sr-Latn-CS" sz="3200" spc="-1" strike="noStrike">
                <a:solidFill>
                  <a:srgbClr val="00b0f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69360" indent="-37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69360" indent="-37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Хидрогалванск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уп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69360" indent="-37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69360" indent="-37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форез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блас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изикалн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терапије која кори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ичн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нерг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хемијска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раж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луј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рвн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ецептор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р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ћели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оз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лаз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Хидрогалванск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хидроелектрин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уп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9047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лваниз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еб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аст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пуњ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д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ј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д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рађ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фит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њ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дроелектрич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п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Локал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хидроелектрич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у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њ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н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а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а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опало.Пост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једноћелијске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воћелијс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четвороћелијск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с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ети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л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ич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36-37º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н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у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ије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ктов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ћ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длакт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г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колен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љу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хидроелектрич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уп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гаванс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к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иј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идов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чвршћ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к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уж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иза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н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уседећ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ћ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мбин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ч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нос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ек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маж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зели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форез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анскутано уношење лекова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ко интактне коже, у организам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моћу галванске струј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ако је растворљив у води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ако се лек у воденом раствору налази дисоцира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Најчешће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оришћени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лекови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електрофорез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52120" y="198072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анод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Verdana"/>
              </a:rPr>
              <a:t>Новока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Verdana"/>
              </a:rPr>
              <a:t>Хистамин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Verdana"/>
              </a:rPr>
              <a:t>Редергин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Verdana"/>
              </a:rPr>
              <a:t>Кортикостероид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Најчешће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коришћени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лекови</a:t>
            </a:r>
            <a:r>
              <a:rPr b="0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електрофорез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атоде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Verdana"/>
              </a:rPr>
              <a:t>КЈ</a:t>
            </a:r>
            <a:r>
              <a:rPr b="1" lang="en-AU" sz="2000" spc="-1" strike="noStrike">
                <a:solidFill>
                  <a:srgbClr val="1f497d"/>
                </a:solidFill>
                <a:latin typeface="Verdana"/>
              </a:rPr>
              <a:t> (</a:t>
            </a:r>
            <a:r>
              <a:rPr b="1" lang="sr-CS" sz="2000" spc="-1" strike="noStrike">
                <a:solidFill>
                  <a:srgbClr val="1f497d"/>
                </a:solidFill>
                <a:latin typeface="Verdana"/>
              </a:rPr>
              <a:t>калијум</a:t>
            </a:r>
            <a:r>
              <a:rPr b="1" lang="en-AU" sz="20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1f497d"/>
                </a:solidFill>
                <a:latin typeface="Verdana"/>
              </a:rPr>
              <a:t>јод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Verdana"/>
              </a:rPr>
              <a:t>Кристални</a:t>
            </a:r>
            <a:r>
              <a:rPr b="1" lang="en-AU" sz="20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1f497d"/>
                </a:solidFill>
                <a:latin typeface="Verdana"/>
              </a:rPr>
              <a:t>пеницилин</a:t>
            </a:r>
            <a:r>
              <a:rPr b="1" lang="en-AU" sz="2000" spc="-1" strike="noStrike">
                <a:solidFill>
                  <a:srgbClr val="1f497d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1f497d"/>
                </a:solidFill>
                <a:latin typeface="Verdana"/>
              </a:rPr>
              <a:t>Тиомуказа</a:t>
            </a:r>
            <a:r>
              <a:rPr b="1" lang="en-AU" sz="2000" spc="-1" strike="noStrike">
                <a:solidFill>
                  <a:srgbClr val="1f497d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д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уношењ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леков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форезом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32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трахова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јств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а-де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окал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вршно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атолошко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с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збегава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астрич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нтолеранциј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обилаже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вото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тр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безбол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Недостаци електрофорезе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ешкоћ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зира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ај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елати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уг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1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треб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а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ликациј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и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ек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нтакт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Једносмерне</a:t>
            </a:r>
            <a:r>
              <a:rPr b="0" lang="en-GB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мпулсне</a:t>
            </a:r>
            <a:r>
              <a:rPr b="0" lang="en-GB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ПУЛС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нократно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ременски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ређено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аткотрајно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тицање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л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ређеног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тензитета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ређеном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аузом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590920" y="3733920"/>
            <a:ext cx="3962160" cy="2057400"/>
            <a:chOff x="2590920" y="3733920"/>
            <a:chExt cx="3962160" cy="2057400"/>
          </a:xfrm>
        </p:grpSpPr>
        <p:sp>
          <p:nvSpPr>
            <p:cNvPr id="188" name="Line 5"/>
            <p:cNvSpPr/>
            <p:nvPr/>
          </p:nvSpPr>
          <p:spPr>
            <a:xfrm>
              <a:off x="2799000" y="5689440"/>
              <a:ext cx="339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5225760" y="4459320"/>
              <a:ext cx="801720" cy="1278360"/>
            </a:xfrm>
            <a:custGeom>
              <a:avLst/>
              <a:gdLst>
                <a:gd name="textAreaLeft" fmla="*/ 0 w 801720"/>
                <a:gd name="textAreaRight" fmla="*/ 802080 w 80172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197" h="1368">
                  <a:moveTo>
                    <a:pt x="0" y="1368"/>
                  </a:moveTo>
                  <a:cubicBezTo>
                    <a:pt x="271" y="684"/>
                    <a:pt x="542" y="0"/>
                    <a:pt x="741" y="0"/>
                  </a:cubicBezTo>
                  <a:cubicBezTo>
                    <a:pt x="940" y="0"/>
                    <a:pt x="1121" y="1140"/>
                    <a:pt x="1197" y="13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7"/>
            <p:cNvSpPr/>
            <p:nvPr/>
          </p:nvSpPr>
          <p:spPr>
            <a:xfrm flipV="1">
              <a:off x="2819880" y="3733920"/>
              <a:ext cx="0" cy="191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 flipH="1">
              <a:off x="2819880" y="4459320"/>
              <a:ext cx="12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AutoShape 9"/>
            <p:cNvSpPr/>
            <p:nvPr/>
          </p:nvSpPr>
          <p:spPr>
            <a:xfrm>
              <a:off x="2590920" y="4459320"/>
              <a:ext cx="75960" cy="13320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34560 h 1332000"/>
                <a:gd name="textAreaBottom" fmla="*/ 1297440 h 13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3545280" y="4459320"/>
              <a:ext cx="801720" cy="1278360"/>
            </a:xfrm>
            <a:custGeom>
              <a:avLst/>
              <a:gdLst>
                <a:gd name="textAreaLeft" fmla="*/ 0 w 801720"/>
                <a:gd name="textAreaRight" fmla="*/ 802080 w 80172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197" h="1368">
                  <a:moveTo>
                    <a:pt x="0" y="1368"/>
                  </a:moveTo>
                  <a:cubicBezTo>
                    <a:pt x="271" y="684"/>
                    <a:pt x="542" y="0"/>
                    <a:pt x="741" y="0"/>
                  </a:cubicBezTo>
                  <a:cubicBezTo>
                    <a:pt x="940" y="0"/>
                    <a:pt x="1121" y="1140"/>
                    <a:pt x="1197" y="13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3383280" y="4459320"/>
              <a:ext cx="31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Једносмерне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мпулсне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рује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еквенција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о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1000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Хз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3520" y="17521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) Ледук-ова стру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) Бернард-ове (ДДС) стр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ц) експоненцијалне струје (Коваршч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) модулисане стр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Историјат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mski leka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ribonius Larg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rsta žab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Pedanios dioscoride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odir rib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rpedo marmorat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LEDUC-OVA STRUJA</a:t>
            </a:r>
            <a:br>
              <a:rPr sz="3200"/>
            </a:br>
            <a:r>
              <a:rPr b="0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("Ultrareiz" ili ultranadražajne stru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23880" y="2209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арактеристика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импул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воугли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пулс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пулс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уз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реквенциј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=14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00000"/>
                </a:solidFill>
                <a:uFillTx/>
                <a:latin typeface="Calibri"/>
              </a:rPr>
              <a:t>ЛЕДУК</a:t>
            </a:r>
            <a:r>
              <a:rPr b="0" lang="en-AU" sz="44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sr-CS" sz="4400" spc="-1" strike="noStrike" u="sng">
                <a:solidFill>
                  <a:srgbClr val="000000"/>
                </a:solidFill>
                <a:uFillTx/>
                <a:latin typeface="Calibri"/>
              </a:rPr>
              <a:t>ОВА</a:t>
            </a:r>
            <a:r>
              <a:rPr b="0" lang="en-AU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00000"/>
                </a:solidFill>
                <a:uFillTx/>
                <a:latin typeface="Calibri"/>
              </a:rPr>
              <a:t>СТРУ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Физиолошк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одилатато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змолитич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у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стич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игид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ем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т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фека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омотор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ар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з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ото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 u="sng">
                <a:solidFill>
                  <a:srgbClr val="000000"/>
                </a:solidFill>
                <a:uFillTx/>
                <a:latin typeface="Calibri"/>
              </a:rPr>
              <a:t>БЕРНАРД</a:t>
            </a:r>
            <a:r>
              <a:rPr b="0" lang="en-AU" sz="4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sr-CS" sz="4000" spc="-1" strike="noStrike" u="sng">
                <a:solidFill>
                  <a:srgbClr val="000000"/>
                </a:solidFill>
                <a:uFillTx/>
                <a:latin typeface="Calibri"/>
              </a:rPr>
              <a:t>ОВЕ</a:t>
            </a:r>
            <a:r>
              <a:rPr b="0" lang="en-AU" sz="4000" spc="-1" strike="noStrike" u="sng">
                <a:solidFill>
                  <a:srgbClr val="000000"/>
                </a:solidFill>
                <a:uFillTx/>
                <a:latin typeface="Calibri"/>
              </a:rPr>
              <a:t> (</a:t>
            </a:r>
            <a:r>
              <a:rPr b="0" lang="sr-CS" sz="4000" spc="-1" strike="noStrike" u="sng">
                <a:solidFill>
                  <a:srgbClr val="000000"/>
                </a:solidFill>
                <a:uFillTx/>
                <a:latin typeface="Calibri"/>
              </a:rPr>
              <a:t>ДДС</a:t>
            </a:r>
            <a:r>
              <a:rPr b="0" lang="en-AU" sz="4000" spc="-1" strike="noStrike" u="sng">
                <a:solidFill>
                  <a:srgbClr val="000000"/>
                </a:solidFill>
                <a:uFillTx/>
                <a:latin typeface="Calibri"/>
              </a:rPr>
              <a:t>) </a:t>
            </a:r>
            <a:r>
              <a:rPr b="0" lang="sr-CS" sz="4000" spc="-1" strike="noStrike" u="sng">
                <a:solidFill>
                  <a:srgbClr val="000000"/>
                </a:solidFill>
                <a:uFillTx/>
                <a:latin typeface="Calibri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пулси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усинусоидног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дулације:МФ,ДФ,ЦП,ЛП,Р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0000"/>
                </a:solidFill>
                <a:latin typeface="Calibri"/>
              </a:rPr>
              <a:t>База и до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ања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аузом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аузе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реквенције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50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100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пулси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тивно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ле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мплитуде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ага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буђивања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торичких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урона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ДС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т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нич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ндр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е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умат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реси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кулопат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дијум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териј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000000"/>
                </a:solidFill>
                <a:uFillTx/>
                <a:latin typeface="Calibri"/>
              </a:rPr>
              <a:t>ЕКСПОНЕНЦИЈАЛНЕ</a:t>
            </a:r>
            <a:r>
              <a:rPr b="0" lang="en-AU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Calibri"/>
              </a:rPr>
              <a:t>СТРУЈЕ</a:t>
            </a:r>
            <a:r>
              <a:rPr b="0" lang="en-AU" sz="3600" spc="-1" strike="noStrike" u="sng">
                <a:solidFill>
                  <a:srgbClr val="000000"/>
                </a:solidFill>
                <a:uFillTx/>
                <a:latin typeface="Calibri"/>
              </a:rPr>
              <a:t> (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Calibri"/>
              </a:rPr>
              <a:t>Коваршчик</a:t>
            </a:r>
            <a:r>
              <a:rPr b="0" lang="en-AU" sz="36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25905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Карактеристика импул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угласти импулси или у облику експоненцијалне крив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С карактеришу благи пораст и пад интензит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пулс траје од  125мс до  2000мс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уза дупло дуж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8"/>
          <p:cNvSpPr/>
          <p:nvPr/>
        </p:nvSpPr>
        <p:spPr>
          <a:xfrm>
            <a:off x="2917800" y="3032280"/>
            <a:ext cx="401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9"/>
          <p:cNvSpPr/>
          <p:nvPr/>
        </p:nvSpPr>
        <p:spPr>
          <a:xfrm flipH="1" flipV="1">
            <a:off x="2908440" y="1828800"/>
            <a:ext cx="9360" cy="11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reeform 10"/>
          <p:cNvSpPr/>
          <p:nvPr/>
        </p:nvSpPr>
        <p:spPr>
          <a:xfrm>
            <a:off x="5451480" y="2144880"/>
            <a:ext cx="758880" cy="874440"/>
          </a:xfrm>
          <a:custGeom>
            <a:avLst/>
            <a:gdLst>
              <a:gd name="textAreaLeft" fmla="*/ 0 w 758880"/>
              <a:gd name="textAreaRight" fmla="*/ 759240 w 758880"/>
              <a:gd name="textAreaTop" fmla="*/ 0 h 874440"/>
              <a:gd name="textAreaBottom" fmla="*/ 874800 h 874440"/>
            </a:gdLst>
            <a:ahLst/>
            <a:rect l="textAreaLeft" t="textAreaTop" r="textAreaRight" b="textAreaBottom"/>
            <a:pathLst>
              <a:path w="1539" h="1377">
                <a:moveTo>
                  <a:pt x="0" y="1320"/>
                </a:moveTo>
                <a:cubicBezTo>
                  <a:pt x="385" y="660"/>
                  <a:pt x="770" y="0"/>
                  <a:pt x="1026" y="9"/>
                </a:cubicBezTo>
                <a:cubicBezTo>
                  <a:pt x="1282" y="18"/>
                  <a:pt x="1454" y="1149"/>
                  <a:pt x="1539" y="13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Freeform 11"/>
          <p:cNvSpPr/>
          <p:nvPr/>
        </p:nvSpPr>
        <p:spPr>
          <a:xfrm>
            <a:off x="2917800" y="2144880"/>
            <a:ext cx="795240" cy="874440"/>
          </a:xfrm>
          <a:custGeom>
            <a:avLst/>
            <a:gdLst>
              <a:gd name="textAreaLeft" fmla="*/ 0 w 795240"/>
              <a:gd name="textAreaRight" fmla="*/ 795600 w 795240"/>
              <a:gd name="textAreaTop" fmla="*/ 0 h 874440"/>
              <a:gd name="textAreaBottom" fmla="*/ 874800 h 874440"/>
            </a:gdLst>
            <a:ahLst/>
            <a:rect l="textAreaLeft" t="textAreaTop" r="textAreaRight" b="textAreaBottom"/>
            <a:pathLst>
              <a:path w="1539" h="1377">
                <a:moveTo>
                  <a:pt x="0" y="1320"/>
                </a:moveTo>
                <a:cubicBezTo>
                  <a:pt x="385" y="660"/>
                  <a:pt x="770" y="0"/>
                  <a:pt x="1026" y="9"/>
                </a:cubicBezTo>
                <a:cubicBezTo>
                  <a:pt x="1282" y="18"/>
                  <a:pt x="1454" y="1149"/>
                  <a:pt x="1539" y="13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Параметри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експоненцијалних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степена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лезије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периферног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нерва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тежине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19320" y="1981080"/>
          <a:ext cx="7162560" cy="4233960"/>
        </p:xfrm>
        <a:graphic>
          <a:graphicData uri="http://schemas.openxmlformats.org/drawingml/2006/table">
            <a:tbl>
              <a:tblPr/>
              <a:tblGrid>
                <a:gridCol w="2274840"/>
                <a:gridCol w="1320840"/>
                <a:gridCol w="1320840"/>
                <a:gridCol w="1123920"/>
                <a:gridCol w="1122120"/>
              </a:tblGrid>
              <a:tr h="551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žina paral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KSPONENCIJALNA STRU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bl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rajanje impulsa u milise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rajanje pauze u milise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reme odmora između serija u minuti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ajteži stepen paralize (ocena "0", "1" po MM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00 –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- 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rednji stepen paralize (ocena "2", "3" po MMT) i sve paralize mimične muskul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ka oštećenja (ocena "3+", "4-" po MM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0 – 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50 -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кспоненцијалних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имењује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зазивање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ишићних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ериферних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арализа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ежег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а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500"/>
            </a:b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кспоненцијалних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имењује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зазивање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ишићних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ериферних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арализа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редњег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а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2"/>
          <p:cNvSpPr/>
          <p:nvPr/>
        </p:nvSpPr>
        <p:spPr>
          <a:xfrm>
            <a:off x="4975200" y="4286160"/>
            <a:ext cx="333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3"/>
          <p:cNvSpPr/>
          <p:nvPr/>
        </p:nvSpPr>
        <p:spPr>
          <a:xfrm flipV="1">
            <a:off x="5003640" y="327672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Freeform 4"/>
          <p:cNvSpPr/>
          <p:nvPr/>
        </p:nvSpPr>
        <p:spPr>
          <a:xfrm>
            <a:off x="6270480" y="3652920"/>
            <a:ext cx="470160" cy="652320"/>
          </a:xfrm>
          <a:custGeom>
            <a:avLst/>
            <a:gdLst>
              <a:gd name="textAreaLeft" fmla="*/ 0 w 470160"/>
              <a:gd name="textAreaRight" fmla="*/ 470520 w 47016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741" h="1026">
                <a:moveTo>
                  <a:pt x="0" y="1026"/>
                </a:moveTo>
                <a:cubicBezTo>
                  <a:pt x="166" y="513"/>
                  <a:pt x="333" y="0"/>
                  <a:pt x="456" y="0"/>
                </a:cubicBezTo>
                <a:cubicBezTo>
                  <a:pt x="579" y="0"/>
                  <a:pt x="694" y="855"/>
                  <a:pt x="741" y="102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Freeform 5"/>
          <p:cNvSpPr/>
          <p:nvPr/>
        </p:nvSpPr>
        <p:spPr>
          <a:xfrm>
            <a:off x="7645320" y="3652920"/>
            <a:ext cx="471600" cy="652320"/>
          </a:xfrm>
          <a:custGeom>
            <a:avLst/>
            <a:gdLst>
              <a:gd name="textAreaLeft" fmla="*/ 0 w 471600"/>
              <a:gd name="textAreaRight" fmla="*/ 471960 w 47160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741" h="1026">
                <a:moveTo>
                  <a:pt x="0" y="1026"/>
                </a:moveTo>
                <a:cubicBezTo>
                  <a:pt x="166" y="513"/>
                  <a:pt x="333" y="0"/>
                  <a:pt x="456" y="0"/>
                </a:cubicBezTo>
                <a:cubicBezTo>
                  <a:pt x="579" y="0"/>
                  <a:pt x="694" y="855"/>
                  <a:pt x="741" y="102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reeform 6"/>
          <p:cNvSpPr/>
          <p:nvPr/>
        </p:nvSpPr>
        <p:spPr>
          <a:xfrm>
            <a:off x="5003640" y="3635280"/>
            <a:ext cx="470160" cy="650880"/>
          </a:xfrm>
          <a:custGeom>
            <a:avLst/>
            <a:gdLst>
              <a:gd name="textAreaLeft" fmla="*/ 0 w 470160"/>
              <a:gd name="textAreaRight" fmla="*/ 470520 w 47016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741" h="1026">
                <a:moveTo>
                  <a:pt x="0" y="1026"/>
                </a:moveTo>
                <a:cubicBezTo>
                  <a:pt x="166" y="513"/>
                  <a:pt x="333" y="0"/>
                  <a:pt x="456" y="0"/>
                </a:cubicBezTo>
                <a:cubicBezTo>
                  <a:pt x="579" y="0"/>
                  <a:pt x="694" y="855"/>
                  <a:pt x="741" y="102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542880" y="4327560"/>
            <a:ext cx="401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7"/>
          <p:cNvSpPr/>
          <p:nvPr/>
        </p:nvSpPr>
        <p:spPr>
          <a:xfrm flipH="1" flipV="1">
            <a:off x="533520" y="3123720"/>
            <a:ext cx="9360" cy="11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3076560" y="3440160"/>
            <a:ext cx="758880" cy="874800"/>
          </a:xfrm>
          <a:custGeom>
            <a:avLst/>
            <a:gdLst>
              <a:gd name="textAreaLeft" fmla="*/ 0 w 758880"/>
              <a:gd name="textAreaRight" fmla="*/ 759240 w 75888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1539" h="1377">
                <a:moveTo>
                  <a:pt x="0" y="1320"/>
                </a:moveTo>
                <a:cubicBezTo>
                  <a:pt x="385" y="660"/>
                  <a:pt x="770" y="0"/>
                  <a:pt x="1026" y="9"/>
                </a:cubicBezTo>
                <a:cubicBezTo>
                  <a:pt x="1282" y="18"/>
                  <a:pt x="1454" y="1149"/>
                  <a:pt x="1539" y="13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542880" y="3440160"/>
            <a:ext cx="795240" cy="874800"/>
          </a:xfrm>
          <a:custGeom>
            <a:avLst/>
            <a:gdLst>
              <a:gd name="textAreaLeft" fmla="*/ 0 w 795240"/>
              <a:gd name="textAreaRight" fmla="*/ 795600 w 7952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1539" h="1377">
                <a:moveTo>
                  <a:pt x="0" y="1320"/>
                </a:moveTo>
                <a:cubicBezTo>
                  <a:pt x="385" y="660"/>
                  <a:pt x="770" y="0"/>
                  <a:pt x="1026" y="9"/>
                </a:cubicBezTo>
                <a:cubicBezTo>
                  <a:pt x="1282" y="18"/>
                  <a:pt x="1454" y="1149"/>
                  <a:pt x="1539" y="13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лектростимулацију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ПМ:периферне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дузетости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 централне одузетости мишића,инактивитетна атроф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ГМ: бешике и дебелог црева, инконтиненција,ноћно мокре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тромбофлебита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лежећих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тимулација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теогене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ехник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електростимулац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ff"/>
                </a:solidFill>
                <a:latin typeface="Calibri"/>
              </a:rPr>
              <a:t>Биполарна</a:t>
            </a:r>
            <a:r>
              <a:rPr b="1" lang="en-AU" sz="28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6600ff"/>
                </a:solidFill>
                <a:latin typeface="Calibri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ff"/>
                </a:solidFill>
                <a:latin typeface="Calibri"/>
              </a:rPr>
              <a:t>Монополарна</a:t>
            </a:r>
            <a:r>
              <a:rPr b="1" lang="en-AU" sz="28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6600ff"/>
                </a:solidFill>
                <a:latin typeface="Calibri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5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x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оцен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М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 дана: неогранич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4" descr="HPIM0213"/>
          <p:cNvPicPr/>
          <p:nvPr/>
        </p:nvPicPr>
        <p:blipFill>
          <a:blip r:embed="rId1"/>
          <a:stretch/>
        </p:blipFill>
        <p:spPr>
          <a:xfrm>
            <a:off x="5207040" y="112248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HPIM0240"/>
          <p:cNvPicPr/>
          <p:nvPr/>
        </p:nvPicPr>
        <p:blipFill>
          <a:blip r:embed="rId2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9680" y="274680"/>
            <a:ext cx="8456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 u="sng">
                <a:solidFill>
                  <a:srgbClr val="000000"/>
                </a:solidFill>
                <a:uFillTx/>
                <a:latin typeface="Calibri"/>
              </a:rPr>
              <a:t>МОДУЛИСАНЕ</a:t>
            </a:r>
            <a:r>
              <a:rPr b="0" lang="en-AU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4000" spc="-1" strike="noStrike" u="sng">
                <a:solidFill>
                  <a:srgbClr val="000000"/>
                </a:solidFill>
                <a:uFillTx/>
                <a:latin typeface="Calibri"/>
              </a:rPr>
              <a:t>СТРУЈЕ</a:t>
            </a:r>
            <a:r>
              <a:rPr b="0" lang="en-AU" sz="4000" spc="-1" strike="noStrike" u="sng">
                <a:solidFill>
                  <a:srgbClr val="000000"/>
                </a:solidFill>
                <a:uFillTx/>
                <a:latin typeface="Calibri"/>
              </a:rPr>
              <a:t> (</a:t>
            </a:r>
            <a:r>
              <a:rPr b="0" lang="sr-CS" sz="4000" spc="-1" strike="noStrike" u="sng">
                <a:solidFill>
                  <a:srgbClr val="000000"/>
                </a:solidFill>
                <a:uFillTx/>
                <a:latin typeface="Calibri"/>
              </a:rPr>
              <a:t>Швелстром</a:t>
            </a:r>
            <a:r>
              <a:rPr b="0" lang="en-AU" sz="40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кспоненцијал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пул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ја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уз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33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реквен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во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тетаничке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контракције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ч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дулиш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нзите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биј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р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епе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тућ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пул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ке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уз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во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лич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ак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чешће се користе код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</a:rPr>
              <a:t>лезија ЦМ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еквен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дулиса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еђу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ну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ун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луча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пулс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јединач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но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ич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0-15-2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ну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реквенциј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ита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одулациј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Историјат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Гилбер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600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електрицит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Галван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789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едносмерн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нстантно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ок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воји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чувени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кспериментом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алванск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Вол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789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нструиш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в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вештач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зво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нгле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изича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Фараде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831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налаз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изменичн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иск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фреквенц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арадизаци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'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Арсонва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анцу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1892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вод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ерапи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изменичн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висок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фреквенциј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стимул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.делтоидеуса  и екстенз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а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сти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Content Placeholder 6" descr="HPIM0209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3" name="Content Placeholder 7" descr="HPIM0213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одулиса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Терапијски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ефек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н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танизирајућег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рак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Индик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инактивитетн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имобилизацион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рофиј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ускулатур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ањењем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н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аг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ралитичн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ускулатур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зиј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Н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омбофлебит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жећих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имулациј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пластичн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раветртебралн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ускулатур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колиоз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чме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имулација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теогене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Електродиј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ласич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лектродијагнос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офарадск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пулс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лванск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Хронаксимет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лектромиограф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текцио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лектромиограф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имулацио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лектромиограф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Content Placeholder 4" descr="HPIM0248.JPG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одела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нстант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мпулс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изменич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иско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редње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Високо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8828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192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Једносмер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1.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Једносмерн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галванск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труј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користи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као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билн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алванизациј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2.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пецијални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облици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примен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галванск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гативн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оли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јонофорез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идрогалванск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идроелектрич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куп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офорез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леко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Једносмер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импулс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з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Леду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в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ернард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в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ДС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кспоненцијал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варшчик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дулиса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661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Наизменичне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24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III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тички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електрицитет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франклинизација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IV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аизменичне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иске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з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фарадск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анскутан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ишн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уралн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имулац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НС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ње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 преко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з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ње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терферентне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мец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нусоидно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дулисане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уск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имулац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исокофреквентне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(преко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.000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Хз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'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Арсонвализац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.000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Хз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Дуготаласн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500.000- 1.000.000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Хз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аткоталасн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КТД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10-100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Х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ултракраткоталасн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434,78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Хз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е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икроталасн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2.450 </a:t>
            </a:r>
            <a:r>
              <a:rPr b="1" lang="sr-C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Хз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 u="sng">
                <a:solidFill>
                  <a:srgbClr val="000000"/>
                </a:solidFill>
                <a:uFillTx/>
                <a:latin typeface="Verdana"/>
              </a:rPr>
              <a:t>Галванска</a:t>
            </a:r>
            <a:r>
              <a:rPr b="0" lang="sr-Latn-CS" sz="5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5400" spc="-1" strike="noStrike" u="sng">
                <a:solidFill>
                  <a:srgbClr val="000000"/>
                </a:solidFill>
                <a:uFillTx/>
                <a:latin typeface="Verdana"/>
              </a:rPr>
              <a:t>струј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 мења свој т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 мења ни интензитет ни напо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снива се на </a:t>
            </a: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особини полар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1905120" y="914400"/>
            <a:ext cx="5486400" cy="2286000"/>
            <a:chOff x="1905120" y="914400"/>
            <a:chExt cx="5486400" cy="2286000"/>
          </a:xfrm>
        </p:grpSpPr>
        <p:sp>
          <p:nvSpPr>
            <p:cNvPr id="59" name="Line 5"/>
            <p:cNvSpPr/>
            <p:nvPr/>
          </p:nvSpPr>
          <p:spPr>
            <a:xfrm>
              <a:off x="1906920" y="2862720"/>
              <a:ext cx="5484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Line 6"/>
            <p:cNvSpPr/>
            <p:nvPr/>
          </p:nvSpPr>
          <p:spPr>
            <a:xfrm flipV="1">
              <a:off x="1906920" y="914400"/>
              <a:ext cx="0" cy="2286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Line 7"/>
            <p:cNvSpPr/>
            <p:nvPr/>
          </p:nvSpPr>
          <p:spPr>
            <a:xfrm flipV="1">
              <a:off x="1905120" y="1596600"/>
              <a:ext cx="685440" cy="1263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Line 8"/>
            <p:cNvSpPr/>
            <p:nvPr/>
          </p:nvSpPr>
          <p:spPr>
            <a:xfrm>
              <a:off x="2598840" y="1568520"/>
              <a:ext cx="34275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Line 9"/>
            <p:cNvSpPr/>
            <p:nvPr/>
          </p:nvSpPr>
          <p:spPr>
            <a:xfrm>
              <a:off x="6068520" y="1568520"/>
              <a:ext cx="579960" cy="1263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ПРИМАРНО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ИЗИЧКО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онск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кинетичк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везан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осмозу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ифуз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нафорез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атафор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8:48:43Z</dcterms:created>
  <dc:creator>WIN98SE</dc:creator>
  <dc:description/>
  <dc:language>en-US</dc:language>
  <cp:lastModifiedBy>Igor Simanic</cp:lastModifiedBy>
  <dcterms:modified xsi:type="dcterms:W3CDTF">2021-01-03T14:33:56Z</dcterms:modified>
  <cp:revision>73</cp:revision>
  <dc:subject/>
  <dc:title>Elektroterapija</dc:title>
</cp:coreProperties>
</file>